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67D2-724F-4014-9DFD-15471A5264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C24A-6BB2-4A5F-AA5A-4E31FCD797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7A1C-0501-4E61-91A8-B1DCA46C9F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88C2-8833-415B-AEE9-27176D8FB5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D080-1B77-42E0-A609-12365DA8F9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84E6-3501-4437-BED3-63B30C6EB9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6F18-1D41-42CA-8C86-93D6DFF19A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2A8D-791A-4163-8C62-2BF2BA5309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4CBB-B447-4BF6-AEB7-B4EC540711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4AEB-8D67-4B36-88FB-8416DD5863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80A8-A8F7-4B94-9F34-4E3F5E76F1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80FA-0090-4F1E-B733-CE86299DCA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AE4D-E264-4C4A-BCB1-13A34E88D4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DA4E-9764-4D68-8470-343B5F4DD6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E50D-F28C-4744-9CDD-65A9ACE94A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9442-7580-46AE-8DE4-A6EBF4ED77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8B6-8FB4-4538-A5FC-882F7475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BDF-0F2A-424C-8444-48A77AAA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97B-9CFB-44D8-934B-4FF60B5F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B07-986B-483E-9184-090CB575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F48-E4D0-4CB8-AAA6-CC249840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646-480B-49C1-B09A-2298D189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4CE-C8E3-4122-A3BC-97F14C79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BE7-7030-4EA0-BD04-A0A66BB4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4CB-AE23-4ADB-BA44-DC17AB51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EB9-31D7-48C8-A1A3-9A564598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31A-67AF-4F29-8C93-DE0101E0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5F2-8E3C-46B1-80CF-B5037861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5E1E-4A65-4F38-AF61-67FF9D74ED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2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2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928800" y="1643040"/>
            <a:ext cx="7643880" cy="32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¿Cómo es.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Señor Lovet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Señorita Tim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SeñorHollera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Señora Toubi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Señor Taylo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835280" y="5084640"/>
            <a:ext cx="511308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inteligente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intelligent"/>
          <p:cNvPicPr/>
          <p:nvPr/>
        </p:nvPicPr>
        <p:blipFill>
          <a:blip r:embed="rId1"/>
          <a:stretch/>
        </p:blipFill>
        <p:spPr>
          <a:xfrm>
            <a:off x="2700360" y="1197000"/>
            <a:ext cx="3333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835280" y="5084640"/>
            <a:ext cx="511308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deportivo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sporty"/>
          <p:cNvPicPr/>
          <p:nvPr/>
        </p:nvPicPr>
        <p:blipFill>
          <a:blip r:embed="rId1"/>
          <a:stretch/>
        </p:blipFill>
        <p:spPr>
          <a:xfrm>
            <a:off x="3635280" y="1052640"/>
            <a:ext cx="200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835280" y="5084640"/>
            <a:ext cx="511308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fastidioso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annoying"/>
          <p:cNvPicPr/>
          <p:nvPr/>
        </p:nvPicPr>
        <p:blipFill>
          <a:blip r:embed="rId1"/>
          <a:stretch/>
        </p:blipFill>
        <p:spPr>
          <a:xfrm>
            <a:off x="3276720" y="1052640"/>
            <a:ext cx="2867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annoying"/>
          <p:cNvPicPr/>
          <p:nvPr/>
        </p:nvPicPr>
        <p:blipFill>
          <a:blip r:embed="rId1"/>
          <a:stretch/>
        </p:blipFill>
        <p:spPr>
          <a:xfrm>
            <a:off x="6948360" y="4005360"/>
            <a:ext cx="2000520" cy="266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porty"/>
          <p:cNvPicPr/>
          <p:nvPr/>
        </p:nvPicPr>
        <p:blipFill>
          <a:blip r:embed="rId2"/>
          <a:stretch/>
        </p:blipFill>
        <p:spPr>
          <a:xfrm>
            <a:off x="5003640" y="3933720"/>
            <a:ext cx="1575000" cy="261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ntelligent"/>
          <p:cNvPicPr/>
          <p:nvPr/>
        </p:nvPicPr>
        <p:blipFill>
          <a:blip r:embed="rId3"/>
          <a:stretch/>
        </p:blipFill>
        <p:spPr>
          <a:xfrm>
            <a:off x="2556000" y="4365720"/>
            <a:ext cx="2305080" cy="192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boyraisinghand"/>
          <p:cNvPicPr/>
          <p:nvPr/>
        </p:nvPicPr>
        <p:blipFill>
          <a:blip r:embed="rId4"/>
          <a:stretch/>
        </p:blipFill>
        <p:spPr>
          <a:xfrm>
            <a:off x="539640" y="4292640"/>
            <a:ext cx="1409760" cy="2038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hug"/>
          <p:cNvPicPr/>
          <p:nvPr/>
        </p:nvPicPr>
        <p:blipFill>
          <a:blip r:embed="rId5"/>
          <a:stretch/>
        </p:blipFill>
        <p:spPr>
          <a:xfrm>
            <a:off x="2916360" y="2205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grydoctor"/>
          <p:cNvPicPr/>
          <p:nvPr/>
        </p:nvPicPr>
        <p:blipFill>
          <a:blip r:embed="rId6"/>
          <a:stretch/>
        </p:blipFill>
        <p:spPr>
          <a:xfrm>
            <a:off x="755640" y="2133720"/>
            <a:ext cx="1512720" cy="194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1042920" y="333360"/>
            <a:ext cx="7201080" cy="855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i profesor / a   es..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0" descr="sensitive.gif"/>
          <p:cNvPicPr/>
          <p:nvPr/>
        </p:nvPicPr>
        <p:blipFill>
          <a:blip r:embed="rId7"/>
          <a:stretch/>
        </p:blipFill>
        <p:spPr>
          <a:xfrm>
            <a:off x="7286760" y="2143080"/>
            <a:ext cx="1519200" cy="207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helpful.gif"/>
          <p:cNvPicPr/>
          <p:nvPr/>
        </p:nvPicPr>
        <p:blipFill>
          <a:blip r:embed="rId8"/>
          <a:stretch/>
        </p:blipFill>
        <p:spPr>
          <a:xfrm>
            <a:off x="5000760" y="185724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72"/>
          <p:cNvSpPr/>
          <p:nvPr/>
        </p:nvSpPr>
        <p:spPr>
          <a:xfrm>
            <a:off x="492120" y="4897440"/>
            <a:ext cx="8248680" cy="173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ow translate the following phrase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eñor Fuller tiene el pelo castaño y los ojos azules. Es aburri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now complete the following sentence, before writing one of your 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 tiene el pelo _________ y los ojos ___________. Es ____________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74"/>
          <p:cNvSpPr/>
          <p:nvPr/>
        </p:nvSpPr>
        <p:spPr>
          <a:xfrm>
            <a:off x="1979640" y="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i profesor e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(My teacher i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75"/>
          <p:cNvSpPr/>
          <p:nvPr/>
        </p:nvSpPr>
        <p:spPr>
          <a:xfrm>
            <a:off x="684360" y="1125360"/>
            <a:ext cx="8064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tri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n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lig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res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por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astidio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m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76"/>
          <p:cNvSpPr/>
          <p:nvPr/>
        </p:nvSpPr>
        <p:spPr>
          <a:xfrm>
            <a:off x="5254560" y="1643040"/>
            <a:ext cx="3889440" cy="212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ict    intelligent    spo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nsitive    kind    inter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noying    helpfu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iss      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857680" y="1857240"/>
            <a:ext cx="192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ñ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ñ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ñori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annoying"/>
          <p:cNvPicPr/>
          <p:nvPr/>
        </p:nvPicPr>
        <p:blipFill>
          <a:blip r:embed="rId1"/>
          <a:stretch/>
        </p:blipFill>
        <p:spPr>
          <a:xfrm>
            <a:off x="6948360" y="4005360"/>
            <a:ext cx="2000520" cy="266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sporty"/>
          <p:cNvPicPr/>
          <p:nvPr/>
        </p:nvPicPr>
        <p:blipFill>
          <a:blip r:embed="rId2"/>
          <a:stretch/>
        </p:blipFill>
        <p:spPr>
          <a:xfrm>
            <a:off x="5003640" y="3933720"/>
            <a:ext cx="1575000" cy="261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ntelligent"/>
          <p:cNvPicPr/>
          <p:nvPr/>
        </p:nvPicPr>
        <p:blipFill>
          <a:blip r:embed="rId3"/>
          <a:stretch/>
        </p:blipFill>
        <p:spPr>
          <a:xfrm>
            <a:off x="2556000" y="4365720"/>
            <a:ext cx="2305080" cy="1922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boyraisinghand"/>
          <p:cNvPicPr/>
          <p:nvPr/>
        </p:nvPicPr>
        <p:blipFill>
          <a:blip r:embed="rId4"/>
          <a:stretch/>
        </p:blipFill>
        <p:spPr>
          <a:xfrm>
            <a:off x="539640" y="4292640"/>
            <a:ext cx="1409760" cy="203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ug"/>
          <p:cNvPicPr/>
          <p:nvPr/>
        </p:nvPicPr>
        <p:blipFill>
          <a:blip r:embed="rId5"/>
          <a:stretch/>
        </p:blipFill>
        <p:spPr>
          <a:xfrm>
            <a:off x="2916360" y="2205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angrydoctor"/>
          <p:cNvPicPr/>
          <p:nvPr/>
        </p:nvPicPr>
        <p:blipFill>
          <a:blip r:embed="rId6"/>
          <a:stretch/>
        </p:blipFill>
        <p:spPr>
          <a:xfrm>
            <a:off x="755640" y="2133720"/>
            <a:ext cx="1512720" cy="1944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1042920" y="333360"/>
            <a:ext cx="7201080" cy="855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i profesor / a   es..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sensitive.gif"/>
          <p:cNvPicPr/>
          <p:nvPr/>
        </p:nvPicPr>
        <p:blipFill>
          <a:blip r:embed="rId7"/>
          <a:stretch/>
        </p:blipFill>
        <p:spPr>
          <a:xfrm>
            <a:off x="7286760" y="2143080"/>
            <a:ext cx="1519200" cy="2071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helpful.gif"/>
          <p:cNvPicPr/>
          <p:nvPr/>
        </p:nvPicPr>
        <p:blipFill>
          <a:blip r:embed="rId8"/>
          <a:stretch/>
        </p:blipFill>
        <p:spPr>
          <a:xfrm>
            <a:off x="5000760" y="185724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98989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describing teachers physical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8 ways to describe a teacher’s perso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guess which teacher is being descri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00000" y="907920"/>
            <a:ext cx="6912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have the hai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ngo el pe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e has the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ene el pe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have the 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ngo los o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 has the 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ene los o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632720" cy="2531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Mi profesor / a   es..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woman teacher"/>
          <p:cNvPicPr/>
          <p:nvPr/>
        </p:nvPicPr>
        <p:blipFill>
          <a:blip r:embed="rId1"/>
          <a:stretch/>
        </p:blipFill>
        <p:spPr>
          <a:xfrm>
            <a:off x="3059280" y="3068640"/>
            <a:ext cx="2971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835280" y="5084640"/>
            <a:ext cx="388908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estricto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angrydoctor"/>
          <p:cNvPicPr/>
          <p:nvPr/>
        </p:nvPicPr>
        <p:blipFill>
          <a:blip r:embed="rId1"/>
          <a:stretch/>
        </p:blipFill>
        <p:spPr>
          <a:xfrm>
            <a:off x="3348000" y="1052640"/>
            <a:ext cx="2476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835280" y="5084640"/>
            <a:ext cx="475272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simp</a:t>
            </a: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ático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hug"/>
          <p:cNvPicPr/>
          <p:nvPr/>
        </p:nvPicPr>
        <p:blipFill>
          <a:blip r:embed="rId1"/>
          <a:stretch/>
        </p:blipFill>
        <p:spPr>
          <a:xfrm>
            <a:off x="2556000" y="11970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835280" y="5084640"/>
            <a:ext cx="475272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sensible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sensitive.gif"/>
          <p:cNvPicPr/>
          <p:nvPr/>
        </p:nvPicPr>
        <p:blipFill>
          <a:blip r:embed="rId1"/>
          <a:stretch/>
        </p:blipFill>
        <p:spPr>
          <a:xfrm>
            <a:off x="3143160" y="1071720"/>
            <a:ext cx="27241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987640" y="4869000"/>
            <a:ext cx="388944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amable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elpful.gif"/>
          <p:cNvPicPr/>
          <p:nvPr/>
        </p:nvPicPr>
        <p:blipFill>
          <a:blip r:embed="rId1"/>
          <a:stretch/>
        </p:blipFill>
        <p:spPr>
          <a:xfrm>
            <a:off x="2928960" y="107172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835280" y="5084640"/>
            <a:ext cx="504180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boyraisinghand"/>
          <p:cNvPicPr/>
          <p:nvPr/>
        </p:nvPicPr>
        <p:blipFill>
          <a:blip r:embed="rId1"/>
          <a:stretch/>
        </p:blipFill>
        <p:spPr>
          <a:xfrm>
            <a:off x="3419640" y="1268280"/>
            <a:ext cx="2304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8:29:12Z</dcterms:created>
  <dc:creator>Chris</dc:creator>
  <dc:description/>
  <dc:language>en-US</dc:language>
  <cp:lastModifiedBy>Chris</cp:lastModifiedBy>
  <dcterms:modified xsi:type="dcterms:W3CDTF">2009-03-30T08:50:41Z</dcterms:modified>
  <cp:revision>2</cp:revision>
  <dc:subject/>
  <dc:title>Slide 1</dc:title>
</cp:coreProperties>
</file>